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29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media/image61.jpeg" ContentType="image/jpeg"/>
  <Override PartName="/ppt/media/image78.jpeg" ContentType="image/jpeg"/>
  <Override PartName="/ppt/media/image62.png" ContentType="image/png"/>
  <Override PartName="/ppt/media/image51.jpeg" ContentType="image/jpeg"/>
  <Override PartName="/ppt/media/image77.jpeg" ContentType="image/jpeg"/>
  <Override PartName="/ppt/media/image60.jpeg" ContentType="image/jpeg"/>
  <Override PartName="/ppt/media/image79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3.png" ContentType="image/png"/>
  <Override PartName="/ppt/media/image56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09D2-2815-4CE5-8652-750F771F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6BE6-C99E-4698-98A4-6FFAEE3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74DF-ABA3-4B37-BCC9-B5FDC8EB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6535-0174-4A06-A5A2-F726DFD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057-FF44-4EB1-BF43-104A7F8A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9F12-0DFB-466B-B5C7-69D294DE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8E5-D3E9-4C6D-8153-3658CE3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4F53-E3D4-4739-9F1F-9FDA4141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BAB-0A33-4671-9C6E-9BCF4A5D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359-883C-4942-B232-3EB09A4B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E225-2BBC-478D-A06A-CB6183C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1495-1F28-4AC7-B4CB-8AD8418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2D4-3BCB-403D-AD10-ABF4A20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287-0FD7-4932-859C-FEAE014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79D-45B4-4A62-B186-99452766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5D0-A93F-4F14-8C32-C3D63A89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6EE6-E706-4412-86C8-8798CFF7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6FAA-0E8A-4F6A-93C2-A0F3FF3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F431-2614-4096-AE17-36FBA86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D973-A9DE-4F9B-ABEE-4C6B495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A71F-65AE-4CDD-B6E4-5F0C4EB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BEF5-1921-471F-BC97-9C941B9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C7D6-6A77-4C18-B966-FB6841F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ACA4-C4EA-469E-902E-E79DFC1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0B7-ADFA-4E09-9485-5EDAE7354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051-4FCE-46E2-BB3F-BD8A1130E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ainguardusa.com/article_images/wood_shingles.jpg&amp;imgrefurl=http://www.rainguardusa.com/roof_materials.html&amp;usg=__wOxsb_1EeLXuTRozx9HqFnhMxEo=&amp;h=403&amp;w=600&amp;sz=48&amp;hl=en&amp;start=2&amp;um=1&amp;tbnid=ZrctHnSRqkiUcM:&amp;tbnh=91&amp;tbnw=135&amp;prev=/images%3Fq%3Dwood%2Bshingles%26um%3D1%26hl%3Den%26safe%3Dactive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www.aarooftops.net/images/wood_shingles.jpg&amp;imgrefurl=http://www.aarooftops.net/Materials.html&amp;usg=__mmO8n4HufLNOYEyGTyhdL0Dc_PU=&amp;h=354&amp;w=450&amp;sz=37&amp;hl=en&amp;start=7&amp;um=1&amp;tbnid=QgXyn9cl9DmShM:&amp;tbnh=100&amp;tbnw=127&amp;prev=/images%3Fq%3Dwood%2Bshingles%26um%3D1%26hl%3Den%26safe%3Dactive%26sa%3DN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roof101.com/images/side_images/shingles/wood-shingles.jpg&amp;imgrefurl=http://www.roof101.com/roof-shingles/cedar-shake-shingles.php&amp;usg=__bX7feL5_B9w_di9VmPB16YWdQL8=&amp;h=266&amp;w=400&amp;sz=43&amp;hl=en&amp;start=25&amp;um=1&amp;tbnid=uEWAmOUKH-bDMM:&amp;tbnh=82&amp;tbnw=124&amp;prev=/images%3Fq%3Dwood%2Bshingles%26start%3D18%26ndsp%3D18%26um%3D1%26hl%3Den%26safe%3Dactive%26sa%3DN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www.mrvinylsiding.com/images/gallery/CTcedarimpressionsperfectionhr.jpg&amp;imgrefurl=http://www.mrvinylsiding.com/InfoCenter/CedarShake/CedarDiscovery/&amp;usg=__8lnIKlUypLwnrGLZ1ICILJjBk_Q=&amp;h=1703&amp;w=1700&amp;sz=617&amp;hl=en&amp;start=30&amp;um=1&amp;tbnid=EE6Xed-1Jm5_7M:&amp;tbnh=150&amp;tbnw=150&amp;prev=/images%3Fq%3Dwood%2Bshingles%26start%3D18%26ndsp%3D18%26um%3D1%26hl%3Den%26safe%3Dactive%26sa%3DN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images.google.com/imgres?imgurl=http://www.inspect-ny.com/exterior/LeakyWoodShingles050DJF.jpg&amp;imgrefurl=http://www.inspect-ny.com/interiors/atticcond2.htm&amp;usg=__R5Rrf6Y0dCcMf-NZHZ_y268PTac=&amp;h=480&amp;w=640&amp;sz=61&amp;hl=en&amp;start=54&amp;um=1&amp;tbnid=2iUm9eMgjRaT5M:&amp;tbnh=103&amp;tbnw=137&amp;prev=/images%3Fq%3Dwood%2Bshingles%26start%3D36%26ndsp%3D18%26um%3D1%26hl%3Den%26safe%3Dactive%26sa%3DN" TargetMode="External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epages.genealogy.rootsweb.ancestry.com/~robert/clapboards.JPG&amp;imgrefurl=http://freepages.genealogy.rootsweb.ancestry.com/~robert/thomasarvinpartone06132006.htm&amp;usg=__ugz7-yUAxT41wIO1-QRdNqXUwkc=&amp;h=1704&amp;w=2272&amp;sz=1423&amp;hl=en&amp;start=3&amp;um=1&amp;tbnid=Swn2wAjTVBLgCM:&amp;tbnh=113&amp;tbnw=150&amp;prev=/images%3Fq%3Dclapboards%26um%3D1%26hl%3Den%26safe%3Dactiv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centralns.ca/pics/34.pinecladboa.jpg&amp;imgrefurl=http://www.centralns.ca/siding.html&amp;usg=__X26RlXtkL3AB7CT4pJ5Mesqz45o=&amp;h=564&amp;w=580&amp;sz=414&amp;hl=en&amp;start=32&amp;um=1&amp;tbnid=bXHpv3YSGqHpfM:&amp;tbnh=130&amp;tbnw=134&amp;prev=/images%3Fq%3Dclapboards%26start%3D18%26ndsp%3D18%26um%3D1%26hl%3Den%26safe%3Dactive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lh4.ggpht.com/_Cu6ZLHpZdUI/RoJeezZG3KI/AAAAAAAAAeU/kNVf0llTNc0/DSC02852.JPG&amp;imgrefurl=http://picasaweb.google.com/lh/photo/GRhuvjV3M78utMmyO11JKg&amp;usg=__rJz1mYTiCNORhdJAssc44VjVtb4=&amp;h=768&amp;w=1024&amp;sz=109&amp;hl=en&amp;start=59&amp;um=1&amp;tbnid=pqO58LjefeLbfM:&amp;tbnh=107&amp;tbnw=143&amp;prev=/images%3Fq%3Dclapboards%26start%3D54%26ndsp%3D18%26um%3D1%26hl%3Den%26safe%3Dactive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countryliving.com/cm/countryliving/images/CLX0405Stockard006-de.jpg&amp;imgrefurl=http://www.countryliving.com/homes/house-tours/colorful-life-0405&amp;usg=__Ds8aKA2u0tusuQZJiVW2veVTaCI=&amp;h=360&amp;w=460&amp;sz=71&amp;hl=en&amp;start=18&amp;um=1&amp;tbnid=3d6nJYBwa26Q5M:&amp;tbnh=100&amp;tbnw=128&amp;prev=/images%3Fq%3Dcolonial%2Bhomes%2Bwith%2Bclapboards%26um%3D1%26hl%3Den%26safe%3Dactive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onleyconstruction.com/IM000442.JPG&amp;imgrefurl=http://www.conleyconstruction.com/sidiing%2520and%2520windows.htm&amp;usg=__SnEQCBZj1EQGJQ_PC4gfgGB1nGs=&amp;h=1200&amp;w=1600&amp;sz=492&amp;hl=en&amp;start=92&amp;um=1&amp;tbnid=mf2Z0cKL0BkTvM:&amp;tbnh=113&amp;tbnw=150&amp;prev=/images%3Fq%3Dclapboards%26start%3D90%26ndsp%3D18%26um%3D1%26hl%3Den%26safe%3Dactive%26sa%3DN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wight.com/living_here/planning/images/RoofWindowsandDormers01.jpg&amp;imgrefurl=http://www.iwight.com/living_here/planning/building_control/Do_I_need_to_make_an_Application/roofwind.asp&amp;usg=__yMsnbljfsoXK81D_2oAJITevESI=&amp;h=633&amp;w=530&amp;sz=92&amp;hl=en&amp;start=2&amp;um=1&amp;tbnid=sXWl4MMdLbH7OM:&amp;tbnh=137&amp;tbnw=115&amp;prev=/images%3Fq%3Ddormers%26um%3D1%26hl%3Den%26safe%3Dactive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mages.google.com/imgres?imgurl=http://www.buildinghistory.com/00%2520Dormers%2520Old%2520and%2520New.jpg&amp;imgrefurl=http://www.buildinghistory.com/gallery_sterling.htm&amp;usg=__iSC2aZkVcWOE3-L98AFTtIRAlj8=&amp;h=1446&amp;w=2453&amp;sz=680&amp;hl=en&amp;start=9&amp;um=1&amp;tbnid=8rp8wbni-0DN2M:&amp;tbnh=88&amp;tbnw=150&amp;prev=/images%3Fq%3Ddormers%26um%3D1%26hl%3Den%26safe%3Dactive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txbarnes.com/house/dormers.jpg&amp;imgrefurl=http://www.txbarnes.com/land/&amp;usg=__8vBGNE3z5anGyrIWQIhGh2KKS7M=&amp;h=600&amp;w=800&amp;sz=128&amp;hl=en&amp;start=17&amp;um=1&amp;tbnid=U7wW71fJhw-UlM:&amp;tbnh=107&amp;tbnw=143&amp;prev=/images%3Fq%3Ddormers%26um%3D1%26hl%3Den%26safe%3Dactive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sv-briarrose.com/p7hg_img_1/fullsize/dormers_wrapped_fs.jpg&amp;imgrefurl=http://sv-briarrose.com/construct_p5.html&amp;usg=__FOzXMzpbxYMHRxSvC1rzB41-GiQ=&amp;h=360&amp;w=500&amp;sz=51&amp;hl=en&amp;start=23&amp;um=1&amp;tbnid=OtWk3fE73r6wjM:&amp;tbnh=94&amp;tbnw=130&amp;prev=/images%3Fq%3Ddormers%26start%3D18%26ndsp%3D18%26um%3D1%26hl%3Den%26safe%3Dactive%26sa%3DN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dreamhomedesignusa.com/images/2_story_3_dormers.jpg&amp;imgrefurl=http://www.dreamhomedesignusa.com/Not%2520so%2520Big.htm&amp;usg=__PZ0dc3cm1nM6nxQZ6JSr7sWWyqU=&amp;h=448&amp;w=640&amp;sz=64&amp;hl=en&amp;start=47&amp;um=1&amp;tbnid=K0V1FRxQhWHGYM:&amp;tbnh=96&amp;tbnw=137&amp;prev=/images%3Fq%3Ddormers%26start%3D36%26ndsp%3D18%26um%3D1%26hl%3Den%26safe%3Dactive%26sa%3DN" TargetMode="External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images.google.com/imgres?imgurl=http://www.donnellystucco.com/images/stucco_scrapped.jpg&amp;imgrefurl=http://www.donnellystucco.com/stucco_scrapped.htm&amp;usg=__6Lqt9Uh-h_Syn-mebFIEeVKyWVw=&amp;h=275&amp;w=275&amp;sz=36&amp;hl=en&amp;start=8&amp;um=1&amp;tbnid=gadkfz23V1COPM:&amp;tbnh=114&amp;tbnw=114&amp;prev=/images%3Fq%3Dstucco%26um%3D1%26hl%3Den%26safe%3Dactive%26sa%3DN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ages.google.com/imgres?imgurl=http://www.sider-oxydro.com/stucco5.gif&amp;imgrefurl=http://www.sider-oxydro.com/what_stucco.htm&amp;usg=__Ed26ksUR93YOZObLF6mLgJY2ww8=&amp;h=289&amp;w=350&amp;sz=78&amp;hl=en&amp;start=30&amp;um=1&amp;tbnid=4mZwWDJJuSkYXM:&amp;tbnh=99&amp;tbnw=120&amp;prev=/images%3Fq%3Dstucco%26start%3D18%26ndsp%3D18%26um%3D1%26hl%3Den%26safe%3Dactive%26sa%3DN" TargetMode="External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images.google.com/imgres?imgurl=http://ask-how.gates2u.com/images/pilasters.jpg&amp;imgrefurl=http://ask-how.gates2u.com/samples/historic-condo-redesign.htm&amp;usg=__cG10cqsikCBM-g9ic44vkwZcaOw=&amp;h=167&amp;w=184&amp;sz=6&amp;hl=en&amp;start=15&amp;um=1&amp;tbnid=HQCIwTZ1K7mJDM:&amp;tbnh=93&amp;tbnw=102&amp;prev=/images%3Fq%3Dpilasters%26um%3D1%26hl%3Den%26safe%3Dactive" TargetMode="External"/><Relationship Id="rId3" Type="http://schemas.openxmlformats.org/officeDocument/2006/relationships/image" Target="../media/image55.jpeg"/><Relationship Id="rId4" Type="http://schemas.openxmlformats.org/officeDocument/2006/relationships/hyperlink" Target="http://images.google.com/imgres?imgurl=http://72.41.41.93/images/wood%2520turning%2520mantel%2520serpintine%2520pilasters%2520web.jpg&amp;imgrefurl=http://trusscustomturnings.com/about3.html&amp;usg=__VIzMEnb2kooURe5ziWfpbdbNGJY=&amp;h=427&amp;w=640&amp;sz=104&amp;hl=en&amp;start=29&amp;um=1&amp;tbnid=xVTqbVVTDhh1cM:&amp;tbnh=91&amp;tbnw=137&amp;prev=/images%3Fq%3Dpilasters%26start%3D18%26ndsp%3D18%26um%3D1%26hl%3Den%26safe%3Dactive%26sa%3DN" TargetMode="External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onecarver.com/gargoyles/it/Brescia/pediment.jpg&amp;imgrefurl=http://www.stonecarver.com/gargoyles/brescia.html&amp;usg=__AqUryXqLHfVwxBHgzDzzuxTRDyY=&amp;h=376&amp;w=581&amp;sz=28&amp;hl=en&amp;start=31&amp;um=1&amp;tbnid=jfIfTzh8dNnfGM:&amp;tbnh=87&amp;tbnw=134&amp;prev=/images%3Fq%3Dpediment%26start%3D18%26ndsp%3D18%26um%3D1%26hl%3Den%26safe%3Dactive%26sa%3DN" TargetMode="External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images.google.com/imgres?imgurl=http://www.woodlands-junior.kent.sch.uk/Homework/houses/doors/door9.jpg&amp;imgrefurl=http://www.woodlands-junior.kent.sch.uk/Homework/houses/georgian.htm&amp;usg=__JQQ3lmyeHtaaN9-Aa406ZeypLAw=&amp;h=250&amp;w=273&amp;sz=93&amp;hl=en&amp;start=8&amp;um=1&amp;tbnid=uDJglrsF0lCw8M:&amp;tbnh=103&amp;tbnw=113&amp;prev=/images%3Fq%3Dfanlights%2Babove%2Bdoors%26um%3D1%26hl%3Den%26safe%3Dactive" TargetMode="External"/><Relationship Id="rId3" Type="http://schemas.openxmlformats.org/officeDocument/2006/relationships/image" Target="../media/image64.jpeg"/><Relationship Id="rId4" Type="http://schemas.openxmlformats.org/officeDocument/2006/relationships/hyperlink" Target="http://images.google.com/imgres?imgurl=http://z.about.com/d/architecture/1/G/b/C/fanlight-at.jpg&amp;imgrefurl=http://architecture.about.com/od/structural/g/fanlight.htm&amp;usg=__UCtyB_4Ca8tGiMyWZxlpjpfIvcM=&amp;h=230&amp;w=168&amp;sz=16&amp;hl=en&amp;start=9&amp;um=1&amp;tbnid=pCnK-0HkMPQewM:&amp;tbnh=108&amp;tbnw=79&amp;prev=/images%3Fq%3Dfanlights%2Babove%2Bdoors%26um%3D1%26hl%3Den%26safe%3Dactive" TargetMode="External"/><Relationship Id="rId5" Type="http://schemas.openxmlformats.org/officeDocument/2006/relationships/image" Target="../media/image65.jpeg"/><Relationship Id="rId6" Type="http://schemas.openxmlformats.org/officeDocument/2006/relationships/hyperlink" Target="http://images.google.com/imgres?imgurl=http://www.woodlands-junior.kent.sch.uk/Homework/houses/images/georgiandoor.jpg&amp;imgrefurl=http://www.zhuangsir.com/bbs/dispbbs.asp%3Fboardid%3D46%26replyID%3D3121%26ID%3D1154%26skin%3D1&amp;usg=__pVuV9ZFQfx_4fvnVPrEt7E8hRHw=&amp;h=200&amp;w=150&amp;sz=37&amp;hl=en&amp;start=48&amp;um=1&amp;tbnid=d5a08gPH-vY7VM:&amp;tbnh=104&amp;tbnw=78&amp;prev=/images%3Fq%3Dfanlights%2Babove%2Bdoors%26start%3D36%26ndsp%3D18%26um%3D1%26hl%3Den%26safe%3Dactive%26sa%3DN" TargetMode="External"/><Relationship Id="rId7" Type="http://schemas.openxmlformats.org/officeDocument/2006/relationships/image" Target="../media/image66.jpeg"/><Relationship Id="rId8" Type="http://schemas.openxmlformats.org/officeDocument/2006/relationships/hyperlink" Target="http://images.google.com/imgres?imgurl=http://www.flogris.org/learning/resources/images/iglossary/fan_light.jpg&amp;imgrefurl=http://www.flogris.org/learning/resources/toolbox/glossary_blocks.php&amp;usg=__AIlxbOZHvKSF6qjRnlUGNo5oojk=&amp;h=255&amp;w=350&amp;sz=30&amp;hl=en&amp;start=52&amp;um=1&amp;tbnid=68e7OW4SUHxvkM:&amp;tbnh=87&amp;tbnw=120&amp;prev=/images%3Fq%3Dfanlights%2Babove%2Bdoors%26start%3D36%26ndsp%3D18%26um%3D1%26hl%3Den%26safe%3Dactive%26sa%3DN" TargetMode="External"/><Relationship Id="rId9" Type="http://schemas.openxmlformats.org/officeDocument/2006/relationships/image" Target="../media/image67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llmarkwindows.com/images/Portico/portico3.jpg&amp;imgrefurl=http://www.hallmarkwindows.com/portico/porticos.htm&amp;usg=__kdUwPLfZNXjyd9eZtc-FF3uqN38=&amp;h=400&amp;w=300&amp;sz=80&amp;hl=en&amp;start=1&amp;um=1&amp;tbnid=Mggv7L02chvTyM:&amp;tbnh=124&amp;tbnw=93&amp;prev=/images%3Fq%3Dportico%26um%3D1%26hl%3Den%26safe%3Dactive%26sa%3DG" TargetMode="External"/><Relationship Id="rId2" Type="http://schemas.openxmlformats.org/officeDocument/2006/relationships/image" Target="../media/image68.jpeg"/><Relationship Id="rId3" Type="http://schemas.openxmlformats.org/officeDocument/2006/relationships/hyperlink" Target="http://images.google.com/imgres?imgurl=http://www.artlex.com/ArtLex/p/images/portico_dundurn.lg.jpg&amp;imgrefurl=http://www.artlex.com/ArtLex/Pon.html&amp;usg=__IpCvZA7fNeXNXhXdb1axJiiLRww=&amp;h=563&amp;w=390&amp;sz=82&amp;hl=en&amp;start=2&amp;um=1&amp;tbnid=uHJeXuvorpiiXM:&amp;tbnh=133&amp;tbnw=92&amp;prev=/images%3Fq%3Dportico%26um%3D1%26hl%3Den%26safe%3Dactive%26sa%3DG" TargetMode="External"/><Relationship Id="rId4" Type="http://schemas.openxmlformats.org/officeDocument/2006/relationships/image" Target="../media/image69.jpeg"/><Relationship Id="rId5" Type="http://schemas.openxmlformats.org/officeDocument/2006/relationships/hyperlink" Target="http://images.google.com/imgres?imgurl=http://www.backyardamerica.com/media/Portico.jpg&amp;imgrefurl=http://www.backyardamerica.com/balustrade_belmont.htm&amp;usg=__CWnVhDpWRSREWI0bh8Qtm1qIR60=&amp;h=460&amp;w=312&amp;sz=29&amp;hl=en&amp;start=15&amp;um=1&amp;tbnid=bS2IabbyK6l5HM:&amp;tbnh=128&amp;tbnw=87&amp;prev=/images%3Fq%3Dportico%26um%3D1%26hl%3Den%26safe%3Dactive%26sa%3DG" TargetMode="External"/><Relationship Id="rId6" Type="http://schemas.openxmlformats.org/officeDocument/2006/relationships/image" Target="../media/image70.jpeg"/><Relationship Id="rId7" Type="http://schemas.openxmlformats.org/officeDocument/2006/relationships/hyperlink" Target="http://images.google.com/imgres?imgurl=http://img.photobucket.com/albums/v219/Dublin1/Dublin%2520Archiseek/DundalkCourthousePorticoAugust2005.jpg&amp;imgrefurl=http://www.archiseek.com/content/showthread.php%3Ft%3D3901&amp;usg=__nepWbJGCF9gC65d0_LBjmoUotM4=&amp;h=548&amp;w=728&amp;sz=57&amp;hl=en&amp;start=23&amp;um=1&amp;tbnid=-fb3ik1i8mSweM:&amp;tbnh=106&amp;tbnw=141&amp;prev=/images%3Fq%3Dportico%26start%3D18%26ndsp%3D18%26um%3D1%26hl%3Den%26safe%3Dactive%26sa%3DN" TargetMode="External"/><Relationship Id="rId8" Type="http://schemas.openxmlformats.org/officeDocument/2006/relationships/image" Target="../media/image71.jpeg"/><Relationship Id="rId9" Type="http://schemas.openxmlformats.org/officeDocument/2006/relationships/hyperlink" Target="http://images.google.com/imgres?imgurl=http://www.brynwoodbuilders.com/images/gallery/portico.jpg&amp;imgrefurl=http://www.brynwoodbuilders.com/gallery.html&amp;usg=__vujh1x-pqnvMZJe90Dix4Ya37zs=&amp;h=600&amp;w=450&amp;sz=43&amp;hl=en&amp;start=46&amp;um=1&amp;tbnid=orWVhJKPrt4KYM:&amp;tbnh=135&amp;tbnw=101&amp;prev=/images%3Fq%3Dportico%26start%3D36%26ndsp%3D18%26um%3D1%26hl%3Den%26safe%3Dactive%26sa%3DN" TargetMode="External"/><Relationship Id="rId10" Type="http://schemas.openxmlformats.org/officeDocument/2006/relationships/image" Target="../media/image72.jpeg"/><Relationship Id="rId11" Type="http://schemas.openxmlformats.org/officeDocument/2006/relationships/hyperlink" Target="http://images.google.com/imgres?imgurl=http://www.johnsonmillwork.com/images/Portico_1.jpg&amp;imgrefurl=http://www.johnsonmillwork.com/gallery.cfm&amp;usg=__sdOHYk-Xb59orgE8BdvKI83tRp0=&amp;h=508&amp;w=488&amp;sz=142&amp;hl=en&amp;start=87&amp;um=1&amp;tbnid=7tv5jzMMAzImaM:&amp;tbnh=131&amp;tbnw=126&amp;prev=/images%3Fq%3Dportico%26start%3D72%26ndsp%3D18%26um%3D1%26hl%3Den%26safe%3Dactive%26sa%3DN" TargetMode="External"/><Relationship Id="rId12" Type="http://schemas.openxmlformats.org/officeDocument/2006/relationships/image" Target="../media/image73.jpeg"/><Relationship Id="rId13" Type="http://schemas.openxmlformats.org/officeDocument/2006/relationships/hyperlink" Target="http://images.google.com/imgres?imgurl=http://www.sunstatehomes.com.au/images/d_gallery/balmoralmk2/large/Entry-Portico.jpg&amp;imgrefurl=http://www.sunstatehomes.com.au/balmoralmk2.htm&amp;usg=__Y7TsYpzFrPTjjLXgBEnEAa3P5fk=&amp;h=784&amp;w=700&amp;sz=170&amp;hl=en&amp;start=108&amp;um=1&amp;tbnid=8xvrAyvX05LhXM:&amp;tbnh=143&amp;tbnw=128&amp;prev=/images%3Fq%3Dporticos%2Bon%2Bhomes%26start%3D90%26ndsp%3D18%26um%3D1%26hl%3Den%26safe%3Dactive%26sa%3DN" TargetMode="External"/><Relationship Id="rId14" Type="http://schemas.openxmlformats.org/officeDocument/2006/relationships/image" Target="../media/image74.jpeg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ofhelper.com/gable_roof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roofhelper.com/mansard_roof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roofhelper.com/hip_roof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roofhelper.com/flat_roof.htm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roofhelper.com/gambrel_roof.htm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oofhelper.com/flat_roof.htm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ibiznow.com/roofing/images/flat_roof.jpg&amp;imgrefurl=http://www.homeroofingoftexas.com/flat_roofs&amp;usg=__Zw0Hiy0Pz1FNsMYCDEeveQKCda0=&amp;h=263&amp;w=350&amp;sz=98&amp;hl=en&amp;start=35&amp;um=1&amp;tbnid=8E9c0GfoMjz4SM:&amp;tbnh=90&amp;tbnw=120&amp;prev=/images%3Fq%3DFlat%2Broof%26start%3D20%26ndsp%3D20%26um%3D1%26hl%3Den%26safe%3Dactive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servaccomm.co.uk/Img/3.Standard-flat-roof-system.jpg&amp;imgrefurl=http://www.servaccomm.co.uk/roofing_systems.asp&amp;usg=__Wcb6jBF4c3EgCCUMmvs-v7J-4i0=&amp;h=497&amp;w=600&amp;sz=48&amp;hl=en&amp;start=71&amp;um=1&amp;tbnid=59v7tEwKfxYucM:&amp;tbnh=112&amp;tbnw=135&amp;prev=/images%3Fq%3DFlat%2Broof%26start%3D60%26ndsp%3D20%26um%3D1%26hl%3Den%26safe%3Dactive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flatroofinginstallations.co.uk/flat_roofing_covering.jpg&amp;imgrefurl=http://www.flatroofinginstallations.co.uk/flat_roof_covering_uk.htm&amp;usg=__T0zKpWQZ0Py0N9yFYK91PaanqdY=&amp;h=200&amp;w=299&amp;sz=13&amp;hl=en&amp;start=124&amp;um=1&amp;tbnid=vluSXq7LB0CEjM:&amp;tbnh=78&amp;tbnw=116&amp;prev=/images%3Fq%3DFlat%2Broof%26start%3D120%26ndsp%3D20%26um%3D1%26hl%3Den%26safe%3Dactive%26sa%3D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oofhelper.com/gable_roof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homedesignersoftware.com/support/images/456_figure8.jpg&amp;imgrefurl=http://www.homedesignersoftware.com/support/displayfaq.php%3FfaqNumber%3D456&amp;h=366&amp;w=511&amp;sz=30&amp;tbnid=6Zg7ymRHKBSfAM::&amp;tbnh=94&amp;tbnw=131&amp;prev=/images%3Fq%3Dgable%2Broof&amp;hl=en&amp;usg=__bj-ee2BjHj0gjT3d0slM9bvlVoc=&amp;sa=X&amp;oi=image_result&amp;resnum=3&amp;ct=image&amp;cd=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google.com/imgres?imgurl=http://www.theplancollection.com/house-plans-images/HPG/ELEV_LR1400front_elevation_550.JPG&amp;imgrefurl=http://www.theplancollection.com/house-plan-related-articles/%3Ftag%3DRanch%2BHouse%2BPlans&amp;h=367&amp;w=550&amp;sz=40&amp;tbnid=4Rbt6YThYizrMM::&amp;tbnh=89&amp;tbnw=133&amp;prev=/images%3Fq%3Dranch%2Bstyle%2Bhome&amp;hl=en&amp;usg=__TqiJ-uFfXbJTfGcghVgqZGISyw4=&amp;sa=X&amp;oi=image_result&amp;resnum=6&amp;ct=image&amp;cd=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architecturalhouseplans.com/home_plans/photo_detail.php?plan_id=15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hiefarchitect.com/support/images/749_figure1.jpg&amp;imgrefurl=http://www.chiefarchitect.com/support/displayfaq.php%3FfaqNumber%3D749&amp;h=354&amp;w=537&amp;sz=35&amp;tbnid=jAkXKZ5dioyO8M::&amp;tbnh=87&amp;tbnw=132&amp;prev=/images%3Fq%3Dhip%2Broof&amp;hl=en&amp;usg=__OaV_8rBBuA8EwZsz3K4xhT46Tvo=&amp;sa=X&amp;oi=image_result&amp;resnum=4&amp;ct=image&amp;cd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onsaari.com/stockImages/newEngland/GambrelRoofColonialHouse.jpg&amp;imgrefurl=http://www.ronsaari.com/stockImages/newEngland/GambrelRoofColonialHouse.php&amp;h=545&amp;w=800&amp;sz=96&amp;tbnid=jeKU2CIH4frbxM::&amp;tbnh=97&amp;tbnw=143&amp;prev=/images%3Fq%3Dgambrel%2Broof&amp;hl=en&amp;usg=__R7X9eAHHRPzulGm3h_XfKQzMxmw=&amp;sa=X&amp;oi=image_result&amp;resnum=1&amp;ct=image&amp;cd=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m/imgres?imgurl=http://www.capelinks.com/images/photo-gallery/houses/gambrel-roof-cape.jpg&amp;imgrefurl=http://www.capelinks.com/cape-cod/photos/detail/47/&amp;h=390&amp;w=589&amp;sz=37&amp;tbnid=fLGbNH0mQRbatM::&amp;tbnh=89&amp;tbnw=135&amp;prev=/images%3Fq%3Dgambrel%2Broof&amp;hl=en&amp;usg=__OY401qeJOcrag9p-1O5DXO4xef4=&amp;sa=X&amp;oi=image_result&amp;resnum=4&amp;ct=image&amp;cd=1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etc.usf.edu/clipart/36500/36526/rooftruss3_36526_lg.gif&amp;imgrefurl=http://etc.usf.edu/clipart/36500/36526/rooftruss3_36526.htm&amp;usg=__F8rVYohpCoT8WrezNZ2Zh8J9xZ8=&amp;h=573&amp;w=700&amp;sz=17&amp;hl=en&amp;start=12&amp;um=1&amp;tbnid=_ejsDnB-klzyxM:&amp;tbnh=115&amp;tbnw=140&amp;prev=/images%3Fq%3Dgambrel%2Broof%26um%3D1%26hl%3Den%26safe%3Dactive%26sa%3DN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skyways.lib.ks.us/orgs/schs/assets/houses/dutchcolonial.jpg&amp;imgrefurl=http://skyways.lib.ks.us/orgs/schs/preservation/housestyles.html&amp;usg=__o6MBRRa779zuFC0n59WHPvfATNI=&amp;h=287&amp;w=432&amp;sz=30&amp;hl=en&amp;start=39&amp;um=1&amp;tbnid=ELSOltDN-7a0WM:&amp;tbnh=84&amp;tbnw=126&amp;prev=/images%3Fq%3Dgambrel%2Broof%26start%3D20%26ndsp%3D20%26um%3D1%26hl%3Den%26safe%3Dactive%26sa%3DN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groundspeak.com/waymarking/display/d8852158-428f-4f49-8812-3131aa35c24a.jpg&amp;imgrefurl=http://www.waymarking.com/cat/details.aspx%3Ff%3D1%26guid%3Da8ea6c4e-f67f-4d4f-bf20-851d59c4d21a%26lat%3D28.8251%26lon%3D-81.311667%26t%3D4%26id%3DCentral%2520Florida%2520Zoo%2520Cutout%2520-%2520Sanford,%2520FL&amp;usg=__IpYVg9bAjPTu1Gh9_aiLJwPEMUw=&amp;h=298&amp;w=400&amp;sz=32&amp;hl=en&amp;start=8&amp;um=1&amp;tbnid=3csdg6GtqCLIxM:&amp;tbnh=92&amp;tbnw=124&amp;prev=/images%3Fq%3Dmansard%2Broof%26um%3D1%26hl%3Den%26safe%3Dactive%26sa%3D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z.about.com/d/architecture/1/0/N/P/victorian-secondempire-1974566.jpg&amp;imgrefurl=http://architecture.about.com/od/periodsstyles/ig/House-Styles/Second-Empire.htm&amp;usg=__rD3-CEgk2huV1aLLh-mN4ksyOXY=&amp;h=415&amp;w=375&amp;sz=145&amp;hl=en&amp;start=6&amp;um=1&amp;tbnid=fH3ukGITw7IyTM:&amp;tbnh=125&amp;tbnw=113&amp;prev=/images%3Fq%3Dmansard%2Broof%26um%3D1%26hl%3Den%26safe%3Dactive%26sa%3D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img.tfd.com/wn/85/62E9F-mansard-roof.gif&amp;imgrefurl=http://www.thefreedictionary.com/mansard%2Broof&amp;usg=__m1QIBHjRbi-LDQLSDn6y-7CezCw=&amp;h=135&amp;w=128&amp;sz=5&amp;hl=en&amp;start=42&amp;um=1&amp;tbnid=1JB4AC4fJCOnrM:&amp;tbnh=92&amp;tbnw=87&amp;prev=/images%3Fq%3Dmansard%2Broof%26start%3D40%26ndsp%3D20%26um%3D1%26hl%3Den%26safe%3Dactive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content.answers.com/main/content/img/McGrawHill/atchitecture/f0615-02.png&amp;imgrefurl=http://www.answers.com/topic/mansard-roof&amp;usg=__bWDkLdhbS9hg_E11n2wasdzXboA=&amp;h=222&amp;w=300&amp;sz=32&amp;hl=en&amp;start=75&amp;um=1&amp;tbnid=BO9y1YZQEWbgDM:&amp;tbnh=86&amp;tbnw=116&amp;prev=/images%3Fq%3Dmansard%2Broof%26start%3D60%26ndsp%3D20%26um%3D1%26hl%3Den%26safe%3Dactive%26sa%3DN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hyperlink" Target="http://mcmleague.org/wp-content/uploads/2007/11/radmidcenturyhomes-038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mcmleague.org/wp-content/uploads/2007/11/radmidcenturyhomes-050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using and Interiors I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.01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itectur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W. Butler 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, oblong pieces of material, usually wood, that are laid in overlapping rows to cover the roof and side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609480"/>
            <a:ext cx="1752840" cy="137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36622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114800"/>
            <a:ext cx="2514600" cy="219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533520"/>
            <a:ext cx="182880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pbo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s with one edge thicker than the other laid in overlappi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3526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029200"/>
            <a:ext cx="1276560" cy="123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3352680"/>
            <a:ext cx="2514600" cy="1752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4952880"/>
            <a:ext cx="1676520" cy="133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32767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Siding"/>
          <p:cNvPicPr/>
          <p:nvPr/>
        </p:nvPicPr>
        <p:blipFill>
          <a:blip r:embed="rId11"/>
          <a:stretch/>
        </p:blipFill>
        <p:spPr>
          <a:xfrm>
            <a:off x="6553080" y="636480"/>
            <a:ext cx="18669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projecting through a steeply pitched roof. Windows are called “dormer window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57200"/>
            <a:ext cx="109548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96252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2004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495288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541008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42861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er material made of cement, sand, and lime used on siding of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Miami Springs Home"/>
          <p:cNvPicPr/>
          <p:nvPr/>
        </p:nvPicPr>
        <p:blipFill>
          <a:blip r:embed="rId1"/>
          <a:stretch/>
        </p:blipFill>
        <p:spPr>
          <a:xfrm>
            <a:off x="304920" y="3200400"/>
            <a:ext cx="3809880" cy="1819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0948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57200"/>
            <a:ext cx="1828800" cy="1508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spanish modern stucco"/>
          <p:cNvPicPr/>
          <p:nvPr/>
        </p:nvPicPr>
        <p:blipFill>
          <a:blip r:embed="rId6"/>
          <a:stretch/>
        </p:blipFill>
        <p:spPr>
          <a:xfrm>
            <a:off x="4495680" y="3657600"/>
            <a:ext cx="3686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ative flattened columns that frame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2571840"/>
            <a:ext cx="3333960" cy="4286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457200"/>
            <a:ext cx="15238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457200"/>
            <a:ext cx="18385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Window &amp; Door Trim"/>
          <p:cNvPicPr/>
          <p:nvPr/>
        </p:nvPicPr>
        <p:blipFill>
          <a:blip r:embed="rId6"/>
          <a:stretch/>
        </p:blipFill>
        <p:spPr>
          <a:xfrm>
            <a:off x="152280" y="3276720"/>
            <a:ext cx="3962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or arched decoration above a door o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p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1276560" cy="82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1314720" cy="600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Colonial Revival houses romanticized North America's colonial past."/>
          <p:cNvPicPr/>
          <p:nvPr/>
        </p:nvPicPr>
        <p:blipFill>
          <a:blip r:embed="rId4"/>
          <a:stretch/>
        </p:blipFill>
        <p:spPr>
          <a:xfrm>
            <a:off x="5791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ative strip at the area where the roof and walls meet. Can be interior or exter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Primo Plasterers"/>
          <p:cNvPicPr/>
          <p:nvPr/>
        </p:nvPicPr>
        <p:blipFill>
          <a:blip r:embed="rId1"/>
          <a:stretch/>
        </p:blipFill>
        <p:spPr>
          <a:xfrm>
            <a:off x="685800" y="4648320"/>
            <a:ext cx="3809880" cy="1333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FRP Classic™ Cornices"/>
          <p:cNvPicPr/>
          <p:nvPr/>
        </p:nvPicPr>
        <p:blipFill>
          <a:blip r:embed="rId2"/>
          <a:stretch/>
        </p:blipFill>
        <p:spPr>
          <a:xfrm>
            <a:off x="5638680" y="3124080"/>
            <a:ext cx="2589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n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semicircular, round, or oval window with fan-shaped panes of glass above a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081240"/>
            <a:ext cx="4343400" cy="3776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09480"/>
            <a:ext cx="1381320" cy="12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3657600"/>
            <a:ext cx="1309680" cy="1790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5335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520" y="472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, open porch supported by columns over the front 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6094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762120"/>
            <a:ext cx="1486080" cy="1266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3526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3048120"/>
            <a:ext cx="1343160" cy="1009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43400" y="31240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5029200"/>
            <a:ext cx="1199880" cy="1247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5120" y="5105520"/>
            <a:ext cx="12189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nger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y looking cutout wood tr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657080" cy="1105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gingerbread trim"/>
          <p:cNvPicPr/>
          <p:nvPr/>
        </p:nvPicPr>
        <p:blipFill>
          <a:blip r:embed="rId3"/>
          <a:stretch/>
        </p:blipFill>
        <p:spPr>
          <a:xfrm>
            <a:off x="4495680" y="2895480"/>
            <a:ext cx="39052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fs: What’s your sty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819520"/>
            <a:ext cx="1619280" cy="104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9718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28954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9528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3886200" y="487692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952880"/>
            <a:ext cx="1771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ngerbread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gingerbread trim"/>
          <p:cNvPicPr/>
          <p:nvPr/>
        </p:nvPicPr>
        <p:blipFill>
          <a:blip r:embed="rId1"/>
          <a:stretch/>
        </p:blipFill>
        <p:spPr>
          <a:xfrm>
            <a:off x="838080" y="1752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gingerbread trim"/>
          <p:cNvPicPr/>
          <p:nvPr/>
        </p:nvPicPr>
        <p:blipFill>
          <a:blip r:embed="rId2"/>
          <a:stretch/>
        </p:blipFill>
        <p:spPr>
          <a:xfrm>
            <a:off x="5257800" y="1752480"/>
            <a:ext cx="3352680" cy="2868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gingerbread trim"/>
          <p:cNvPicPr/>
          <p:nvPr/>
        </p:nvPicPr>
        <p:blipFill>
          <a:blip r:embed="rId3"/>
          <a:stretch/>
        </p:blipFill>
        <p:spPr>
          <a:xfrm>
            <a:off x="1752480" y="4114800"/>
            <a:ext cx="3219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t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economical roofs to build. Usually not covered with traditional roofing materials. There will be some slope for drainage and is usually found on commercial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648320"/>
            <a:ext cx="161928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38289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493380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5381640"/>
            <a:ext cx="1714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ble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residential style roof. Simple and economical to build, allows good ventilation. Can be high or low pi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8380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Dramatic sloping roof"/>
          <p:cNvPicPr/>
          <p:nvPr/>
        </p:nvPicPr>
        <p:blipFill>
          <a:blip r:embed="rId3"/>
          <a:stretch/>
        </p:blipFill>
        <p:spPr>
          <a:xfrm>
            <a:off x="762120" y="3886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homedesignersoftware.com/support/displayfaq.php?faqNumber=45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3581280"/>
            <a:ext cx="178128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http://www.theplancollection.com/house-plan-related-articles/?tag=Ranch+House+Plan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762120"/>
            <a:ext cx="113364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4952880"/>
            <a:ext cx="39816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icated than the gable. Provides a cornice on all 4 sides of the house. Ventilation is not good as a gener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http://www.chiefarchitect.com/support/displayfaq.php?faqNumber=7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125748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Sears mail-order house with a hipped roof"/>
          <p:cNvPicPr/>
          <p:nvPr/>
        </p:nvPicPr>
        <p:blipFill>
          <a:blip r:embed="rId3"/>
          <a:stretch/>
        </p:blipFill>
        <p:spPr>
          <a:xfrm>
            <a:off x="3809880" y="3505320"/>
            <a:ext cx="3657600" cy="114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 practical style, sometimes called the &quot;Prairie Box&quot;"/>
          <p:cNvPicPr/>
          <p:nvPr/>
        </p:nvPicPr>
        <p:blipFill>
          <a:blip r:embed="rId4"/>
          <a:stretch/>
        </p:blipFill>
        <p:spPr>
          <a:xfrm>
            <a:off x="533520" y="4110120"/>
            <a:ext cx="297180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696080" y="457200"/>
            <a:ext cx="943200" cy="771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103824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Victorian House with a Hipped Roof"/>
          <p:cNvPicPr/>
          <p:nvPr/>
        </p:nvPicPr>
        <p:blipFill>
          <a:blip r:embed="rId7"/>
          <a:stretch/>
        </p:blipFill>
        <p:spPr>
          <a:xfrm>
            <a:off x="5638680" y="4724280"/>
            <a:ext cx="28195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brel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alled a “barn” roof. Common with Dutch Colonial style. Permits headroom on top level of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http://www.ronsaari.com/stockImages/newEngland/GambrelRoofColonialHouse.ph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0384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http://www.capelinks.com/cape-cod/photos/detail/47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581280"/>
            <a:ext cx="2047680" cy="134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ambrel Roof Barn"/>
          <p:cNvPicPr/>
          <p:nvPr/>
        </p:nvPicPr>
        <p:blipFill>
          <a:blip r:embed="rId5"/>
          <a:stretch/>
        </p:blipFill>
        <p:spPr>
          <a:xfrm>
            <a:off x="5257800" y="3276720"/>
            <a:ext cx="3505320" cy="300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304920"/>
            <a:ext cx="1790640" cy="147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81080" y="5486400"/>
            <a:ext cx="1200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sard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extra space on top floor of house. 2 slopes on all sides, with lower slope being steep and upper slope almost fl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828960"/>
            <a:ext cx="2286000" cy="1695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86200"/>
            <a:ext cx="1697040" cy="1876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191120"/>
            <a:ext cx="1333440" cy="1409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533520"/>
            <a:ext cx="16761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d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ore sl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: extension built at right angles to the length of th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6200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modified saltbox"/>
          <p:cNvPicPr/>
          <p:nvPr/>
        </p:nvPicPr>
        <p:blipFill>
          <a:blip r:embed="rId2"/>
          <a:stretch/>
        </p:blipFill>
        <p:spPr>
          <a:xfrm>
            <a:off x="609480" y="3962520"/>
            <a:ext cx="3429000" cy="234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S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5335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Low P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3:57:51Z</dcterms:created>
  <dc:creator> sherry brooks</dc:creator>
  <dc:description/>
  <dc:language>en-US</dc:language>
  <cp:lastModifiedBy>s.brooks</cp:lastModifiedBy>
  <dcterms:modified xsi:type="dcterms:W3CDTF">2009-01-28T18:53:02Z</dcterms:modified>
  <cp:revision>11</cp:revision>
  <dc:subject/>
  <dc:title>Housing and Interiors I     </dc:title>
</cp:coreProperties>
</file>